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714-8F26-490E-BDFE-627CD8E2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CA9-9991-471F-BF9C-1E5BB514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CF7-60DC-4B7E-8231-273B358F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AF7-9AA4-493F-B863-D9A42890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DD6-AC2C-4F80-9D5D-653BA162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464-B7EB-4336-B339-F2390AB7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B2A-AFC2-4F32-9BCB-6208D120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3A3-707B-44FD-8136-AABB595C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335-2684-49ED-92BD-33AE74F8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459-7306-4FDC-8F12-99F217E3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5097-FF03-4F4D-8EE5-02385BA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995-98E0-48FE-ADC6-A27450A3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1C5C-AD24-45BC-A35C-E1ECBD61B4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Comic Sans MS"/>
              </a:rPr>
              <a:t>The ABCs (and D) of Writing</a:t>
            </a:r>
            <a:br>
              <a:rPr sz="7200"/>
            </a:br>
            <a:r>
              <a:rPr b="0" lang="en-US" sz="7200" spc="-1" strike="noStrike">
                <a:solidFill>
                  <a:srgbClr val="ccffff"/>
                </a:solidFill>
                <a:latin typeface="Comic Sans MS"/>
              </a:rPr>
              <a:t>Prompt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Comic Sans MS"/>
              </a:rPr>
              <a:t>WHY</a:t>
            </a:r>
            <a:r>
              <a:rPr b="1" lang="en-US" sz="4000" spc="-1" strike="noStrike">
                <a:solidFill>
                  <a:srgbClr val="ccffff"/>
                </a:solidFill>
                <a:latin typeface="Comic Sans MS"/>
              </a:rPr>
              <a:t> is this good to learn?</a:t>
            </a:r>
            <a:br>
              <a:rPr sz="4000"/>
            </a:br>
            <a:r>
              <a:rPr b="1" lang="en-US" sz="3200" spc="-1" strike="noStrike">
                <a:solidFill>
                  <a:srgbClr val="ccffff"/>
                </a:solidFill>
                <a:latin typeface="Comic Sans MS"/>
              </a:rPr>
              <a:t>(you don’t have to write this part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be writing reports / papers all ye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start he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w SAT has a writing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employees are now asking for writing samples as part of the interview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can write well, you have the keys to let yourself through the doors of many amazing opportuniti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mic Sans MS"/>
              </a:rPr>
              <a:t>What is ABC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=Attack the promp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 = Brainstorm possi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 = Choose the order of y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 = Detect errors before turning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raft 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ffff"/>
                </a:solidFill>
                <a:latin typeface="Comic Sans MS"/>
              </a:rPr>
              <a:t>Let’s Try this Out!!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mic Sans MS"/>
              </a:rPr>
              <a:t>A = Attack the Promp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Step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 out the words “Write an essay” or “write a composition”---- you do not need them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le any word that asks you to do some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n arrow from each circled word to what it is telling you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prompt, rewrite &amp; number the circled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Comic Sans MS"/>
              </a:rPr>
              <a:t>B = Brainstorm Possible Answe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take 1-2 minutes to do thi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lay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layer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Comic Sans MS"/>
              </a:rPr>
              <a:t>C = Choose the Order of Your Respons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like driving somewhere with a map makes the trip easier, so does planning which way your essay should go make your writing bet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3:56:03Z</dcterms:created>
  <dc:creator>BPS</dc:creator>
  <dc:description/>
  <dc:language>en-US</dc:language>
  <cp:lastModifiedBy>BPS</cp:lastModifiedBy>
  <dcterms:modified xsi:type="dcterms:W3CDTF">2009-09-15T14:10:38Z</dcterms:modified>
  <cp:revision>4</cp:revision>
  <dc:subject/>
  <dc:title>The ABCs (and D) of Writing Prompts</dc:title>
</cp:coreProperties>
</file>